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0EB-6625-428F-980C-4C0A0611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B4E-EE95-47A5-9A45-92E72250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9BF-6A06-4DA7-B93E-27C29E11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709-E28A-4AE3-B404-037F5B7D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E0BF-06E5-4FD6-A46B-9B38B77F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D818-CC0C-40DA-BF86-7AA7FA79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C5C-A532-4210-B616-B109C84B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DB02-FE61-4812-AD2E-2EAF965C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C383-BF56-4887-93CB-4FFB9CDB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12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C095-0D99-4815-B434-BBADCC28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16FF-F127-4D6F-B8C6-B82B486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6F0-844A-4B68-BBBE-BA81561E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58E1-E783-4FAC-82ED-1734C4C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E26-F609-4E26-AB9E-00E0B9E0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5341-FAF9-40F0-8DC0-EE209CA4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4ED0-0268-4A6E-8E3E-F0DF48AC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7AAE-E176-4A7E-BC11-64219063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4B9-C8EA-4A0E-B0E0-95E3A100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01F-999D-4AFC-8A03-5C81CA35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B4A-6C3D-4F93-832D-3748D2FA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12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E5E-01A1-49CF-8A1C-28AF891D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DD1-85D3-44E9-A2CB-60F2D044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586-0A08-45E2-8847-497732B3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465-D43B-4730-92BF-9BBACA6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004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019d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009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8ff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CAFE-2EBF-4E20-B985-060CA662EE3D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92FF-C00A-4650-81BF-4A6FC23BEB45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owerpoint title 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004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019d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009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8ff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DBFA-9E2E-4F11-9D8B-368ACD8C30A1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8b3c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C8C-E549-496E-8D20-EEFD4D54B0D8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5EF3-B0D2-4A81-8B12-2462B51A34E6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F382-1E39-49A5-8800-A7719E17A51B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grpSp>
        <p:nvGrpSpPr>
          <p:cNvPr id="87" name="Group 55"/>
          <p:cNvGrpSpPr/>
          <p:nvPr/>
        </p:nvGrpSpPr>
        <p:grpSpPr>
          <a:xfrm>
            <a:off x="5358960" y="3530160"/>
            <a:ext cx="3407760" cy="2797920"/>
            <a:chOff x="5358960" y="3530160"/>
            <a:chExt cx="3407760" cy="2797920"/>
          </a:xfrm>
        </p:grpSpPr>
        <p:sp>
          <p:nvSpPr>
            <p:cNvPr id="88" name="Line 7"/>
            <p:cNvSpPr/>
            <p:nvPr/>
          </p:nvSpPr>
          <p:spPr>
            <a:xfrm flipH="1">
              <a:off x="8185320" y="4526280"/>
              <a:ext cx="42120" cy="27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 rot="530400">
              <a:off x="7788240" y="4805280"/>
              <a:ext cx="802080" cy="59580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H="1">
              <a:off x="6113880" y="5091480"/>
              <a:ext cx="25200" cy="16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 flipH="1" flipV="1">
              <a:off x="6113520" y="5253120"/>
              <a:ext cx="2005200" cy="31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 flipV="1">
              <a:off x="8119440" y="5294880"/>
              <a:ext cx="4212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 rot="530400">
              <a:off x="6626160" y="5214960"/>
              <a:ext cx="975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6246720" y="5720040"/>
              <a:ext cx="251280" cy="3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AutoShape 19"/>
            <p:cNvSpPr/>
            <p:nvPr/>
          </p:nvSpPr>
          <p:spPr>
            <a:xfrm rot="530400">
              <a:off x="6500520" y="5501160"/>
              <a:ext cx="853560" cy="5936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Line 22"/>
            <p:cNvSpPr/>
            <p:nvPr/>
          </p:nvSpPr>
          <p:spPr>
            <a:xfrm flipH="1">
              <a:off x="5898240" y="5060520"/>
              <a:ext cx="42120" cy="27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AutoShape 24"/>
            <p:cNvSpPr/>
            <p:nvPr/>
          </p:nvSpPr>
          <p:spPr>
            <a:xfrm rot="530400">
              <a:off x="5399280" y="5329800"/>
              <a:ext cx="853560" cy="5936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6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 flipH="1" flipV="1">
              <a:off x="7485480" y="5022720"/>
              <a:ext cx="300240" cy="4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AutoShape 29"/>
            <p:cNvSpPr/>
            <p:nvPr/>
          </p:nvSpPr>
          <p:spPr>
            <a:xfrm rot="530400">
              <a:off x="6635880" y="4632120"/>
              <a:ext cx="853560" cy="5936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Line 32"/>
            <p:cNvSpPr/>
            <p:nvPr/>
          </p:nvSpPr>
          <p:spPr>
            <a:xfrm flipH="1" flipV="1">
              <a:off x="6382080" y="4851000"/>
              <a:ext cx="251280" cy="3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34"/>
            <p:cNvSpPr/>
            <p:nvPr/>
          </p:nvSpPr>
          <p:spPr>
            <a:xfrm rot="530400">
              <a:off x="5534640" y="4460760"/>
              <a:ext cx="853560" cy="5936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Line 37"/>
            <p:cNvSpPr/>
            <p:nvPr/>
          </p:nvSpPr>
          <p:spPr>
            <a:xfrm>
              <a:off x="7618320" y="4153680"/>
              <a:ext cx="300240" cy="4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AutoShape 39"/>
            <p:cNvSpPr/>
            <p:nvPr/>
          </p:nvSpPr>
          <p:spPr>
            <a:xfrm rot="530400">
              <a:off x="7923600" y="3938400"/>
              <a:ext cx="802080" cy="59364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2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6517080" y="3982320"/>
              <a:ext cx="251280" cy="3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 rot="530400">
              <a:off x="6770880" y="3763440"/>
              <a:ext cx="853560" cy="5936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1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AutoShape 47"/>
            <p:cNvSpPr/>
            <p:nvPr/>
          </p:nvSpPr>
          <p:spPr>
            <a:xfrm rot="530400">
              <a:off x="5669640" y="3592080"/>
              <a:ext cx="853560" cy="593640"/>
            </a:xfrm>
            <a:prstGeom prst="roundRect">
              <a:avLst>
                <a:gd name="adj" fmla="val 2272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Line 50"/>
            <p:cNvSpPr/>
            <p:nvPr/>
          </p:nvSpPr>
          <p:spPr>
            <a:xfrm>
              <a:off x="7348320" y="5891400"/>
              <a:ext cx="250920" cy="3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8" name="AutoShape 52"/>
            <p:cNvSpPr/>
            <p:nvPr/>
          </p:nvSpPr>
          <p:spPr>
            <a:xfrm rot="530400">
              <a:off x="7602120" y="5672160"/>
              <a:ext cx="853560" cy="5936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9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09" name="Text Box 56"/>
          <p:cNvSpPr/>
          <p:nvPr/>
        </p:nvSpPr>
        <p:spPr>
          <a:xfrm>
            <a:off x="9396360" y="595440"/>
            <a:ext cx="3888000" cy="1313640"/>
          </a:xfrm>
          <a:prstGeom prst="rect">
            <a:avLst/>
          </a:prstGeom>
          <a:solidFill>
            <a:srgbClr val="ffc9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any of the tasks on this presentation refer to ‘Climate Clothing’ – an independent fashion retail business situated in a local tow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-0.73212 -1.85185E-006 E">
                                      <p:cBhvr>
                                        <p:cTn id="6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242-FE03-475A-8539-ADE65D80FA74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9D8E-1AF7-4435-BA41-99391A4D8260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3. Person specification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Person specifica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profile of the type of person needed to do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n up from the job analysis and job d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s the basis for the selection of the most suitable person to fill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 and qual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intelligence (I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ised skills – e.g. familiar with I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al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7B83-2D0F-46AF-837B-82EAFC36E61E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4083-FA97-46CD-831B-6E0B3EBB2523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15" name="Text Box 52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16" name="Group 88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317" name="Line 89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8" name="AutoShape 90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9" name="Text Box 91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0" name="Line 92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1" name="Line 93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2" name="Line 94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3" name="Rectangle 95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4" name="Line 96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5" name="AutoShape 97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6" name="Text Box 98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7" name="Line 99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8" name="AutoShape 100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9" name="Text Box 101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0" name="Line 102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1" name="AutoShape 103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2" name="Text Box 104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3" name="Line 105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4" name="AutoShape 106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5" name="Text Box 107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6" name="Line 108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7" name="AutoShape 109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8" name="Text Box 110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9" name="Line 111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0" name="AutoShape 112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1" name="Text Box 113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2" name="AutoShape 114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3" name="Text Box 115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4" name="Line 116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5" name="AutoShape 117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6" name="Text Box 118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61F0-E397-4FEE-9DE5-A1A8840A64CA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8567-330D-4F89-95F3-531C9DC5B41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4. Finding potential applicant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Jobcentr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d by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free for businesses to adv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Employment agenci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ten specialise in a particula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ge for thei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Head-hunter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d to recruit executives – Enticed away from other businesses (</a:t>
            </a:r>
            <a:r>
              <a:rPr b="1" lang="en-GB" sz="2400" spc="-1" strike="noStrike">
                <a:solidFill>
                  <a:srgbClr val="33019d"/>
                </a:solidFill>
                <a:latin typeface="Arial"/>
              </a:rPr>
              <a:t>golden hel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Adverti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in the local, national or technical p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"/>
              </a:rPr>
              <a:t>Word of mouth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ost common way in which people find out about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79A3-DF04-406C-B8A6-64C153118380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BB3-7F3B-4B57-8B99-56C8361C87A7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Job adverts</a:t>
            </a:r>
            <a:br>
              <a:rPr sz="4000"/>
            </a:br>
            <a:r>
              <a:rPr b="0" i="1" lang="en-GB" sz="3200" spc="-1" strike="noStrike">
                <a:solidFill>
                  <a:srgbClr val="4a004b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9396360" y="662040"/>
            <a:ext cx="3888000" cy="1923480"/>
          </a:xfrm>
          <a:prstGeom prst="rect">
            <a:avLst/>
          </a:prstGeom>
          <a:solidFill>
            <a:srgbClr val="ffc9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any of the tasks on this presentation refer to ‘Climate Clothing’ – an independent fashion retail business situated in a local town. Allow the students to conjure up their own ideas as to exactly what this business is lik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0" name="Picture 6" descr="teacher's note button"/>
          <p:cNvPicPr/>
          <p:nvPr/>
        </p:nvPicPr>
        <p:blipFill>
          <a:blip r:embed="rId1"/>
          <a:stretch/>
        </p:blipFill>
        <p:spPr>
          <a:xfrm>
            <a:off x="7308720" y="115920"/>
            <a:ext cx="1714680" cy="361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pdf button"/>
          <p:cNvPicPr/>
          <p:nvPr/>
        </p:nvPicPr>
        <p:blipFill>
          <a:blip r:embed="rId2"/>
          <a:stretch/>
        </p:blipFill>
        <p:spPr>
          <a:xfrm>
            <a:off x="8532720" y="2674800"/>
            <a:ext cx="51444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-0.73212 -1.85185E-006 E">
                                      <p:cBhvr>
                                        <p:cTn id="306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Next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9" dur="1" fill="hold"/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6BB3-C6D5-41E3-9B5A-F6739AA25CA6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4DFC-B84E-4E9C-92C5-F19B4B60ED03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366" name="Text Box 1076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67" name="Group 1109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368" name="Line 1110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9" name="AutoShape 1111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0" name="Text Box 1112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1" name="Line 1113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2" name="Line 1114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3" name="Line 1115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4" name="Rectangle 1116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5" name="Line 1117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6" name="AutoShape 1118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7" name="Text Box 1119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8" name="Line 1120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9" name="AutoShape 1121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0" name="Text Box 1122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Line 1123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2" name="AutoShape 1124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3" name="Text Box 1125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Line 1126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AutoShape 1127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Text Box 1128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Line 1129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AutoShape 1130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9" name="Text Box 1131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Line 1132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1" name="AutoShape 1133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2" name="Text Box 1134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3" name="AutoShape 1135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4" name="Text Box 1136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5" name="Line 1137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6" name="AutoShape 1138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7" name="Text Box 1139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BED4-167D-4A33-8936-3FCF80B37174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D22C-9417-41EE-B05A-0E9FA61CFC6B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a004b"/>
                </a:solidFill>
                <a:latin typeface="Arial"/>
              </a:rPr>
              <a:t>5. Application forms, the Curriculum Vitae (CV) and accompanying letter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as the basis for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8700"/>
                </a:solidFill>
                <a:latin typeface="Arial"/>
              </a:rPr>
              <a:t>Curriculum Vitae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brief account of a candidate’s education, qualifications, experience an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tages of CV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19d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highlight things the applicant wishes to emphas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19d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printed many times and sent to numerous potential emplo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8700"/>
                </a:solidFill>
                <a:latin typeface="Arial"/>
              </a:rPr>
              <a:t>Application form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tandardise the replies from applicants, making it easier to short-list appli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04" name="Picture 5" descr="more button"/>
          <p:cNvPicPr/>
          <p:nvPr/>
        </p:nvPicPr>
        <p:blipFill>
          <a:blip r:embed="rId1"/>
          <a:stretch/>
        </p:blipFill>
        <p:spPr>
          <a:xfrm>
            <a:off x="8317080" y="2836800"/>
            <a:ext cx="64764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03AB-C32A-4B4B-9CF3-68C0F7620BB3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48E7-A8AA-425E-8494-2CDFC487085B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a004b"/>
                </a:solidFill>
                <a:latin typeface="Arial"/>
              </a:rPr>
              <a:t>5. Application forms, the Curriculum Vitae (CV) and accompanying letter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CV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oduced by the applicants, usually following a standard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130400" y="2832120"/>
            <a:ext cx="2720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Personal detai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4284720" y="2832120"/>
            <a:ext cx="4611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ame, address, date of birth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130400" y="3313080"/>
            <a:ext cx="2793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Education and qualific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4284720" y="3313080"/>
            <a:ext cx="438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chools, GCSEs, A-Levels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1130400" y="4194000"/>
            <a:ext cx="2720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Work experi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4284720" y="4194000"/>
            <a:ext cx="438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liday jobs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1130400" y="4676760"/>
            <a:ext cx="3081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Other qualifications and achiev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4284720" y="4676760"/>
            <a:ext cx="4383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riving licence, lifeguard award, DofE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1130400" y="2349360"/>
            <a:ext cx="3373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S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4324320" y="2349360"/>
            <a:ext cx="172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1130400" y="5524560"/>
            <a:ext cx="2720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Narrow"/>
                <a:ea typeface="Times New Roman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4284720" y="5524560"/>
            <a:ext cx="4381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ports, hobbies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3" name="Picture 18" descr="back button"/>
          <p:cNvPicPr/>
          <p:nvPr/>
        </p:nvPicPr>
        <p:blipFill>
          <a:blip r:embed="rId1"/>
          <a:stretch/>
        </p:blipFill>
        <p:spPr>
          <a:xfrm>
            <a:off x="7524720" y="6453360"/>
            <a:ext cx="961920" cy="36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B982-B34D-40CA-9BAF-23B4ABF1EA86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FF97-466B-4768-AA78-46BACB9B1A68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a004b"/>
                </a:solidFill>
                <a:latin typeface="Arial"/>
              </a:rPr>
              <a:t>5. Application forms, the Curriculum Vitae (CV) and accompanying letter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Accompanying letter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pplicant explains why she wants the job and is particularly suited to the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pplicant’s chance to show that they are liter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19d"/>
                </a:solidFill>
                <a:latin typeface="Arial"/>
              </a:rPr>
              <a:t>It is vital that the letter and CV/application form are well-presented with NO spelling mis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1068480" y="4424400"/>
            <a:ext cx="7772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19d"/>
                </a:solidFill>
                <a:latin typeface="Arial"/>
              </a:rPr>
              <a:t>It is vital that the letter and CV/application form are well-presented with NO spelling mistak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7000"/>
                                    </p:stCondLst>
                                  </p:cTn>
                                  <p:tgtEl>
                                    <p:spTgt spid="4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7F33-276F-4E8E-A63F-615E8E7A7AF9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0556-284D-4D9F-95AE-0803ABF6786B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35" name="Text Box 1075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6" name="Group 1110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437" name="Line 1111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8" name="AutoShape 1112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9" name="Text Box 1113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0" name="Line 1114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1" name="Line 1115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2" name="Line 1116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3" name="Rectangle 1117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4" name="Line 1118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5" name="AutoShape 1119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6" name="Text Box 1120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7" name="Line 1121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8" name="AutoShape 1122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9" name="Text Box 1123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0" name="Line 1124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1" name="AutoShape 1125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2" name="Text Box 1126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3" name="Line 1127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4" name="AutoShape 1128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5" name="Text Box 1129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6" name="Line 1130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7" name="AutoShape 1131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8" name="Text Box 1132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9" name="Line 1133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0" name="AutoShape 1134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1" name="Text Box 1135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2" name="AutoShape 1136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3" name="Text Box 1137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4" name="Line 1138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5" name="AutoShape 1139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6" name="Text Box 1140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2A3-3681-496D-A4D0-F4F68069C0D2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739F-2667-439F-8BF7-C666A7AFB818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Selecting for interview</a:t>
            </a:r>
            <a:br>
              <a:rPr sz="4000"/>
            </a:br>
            <a:r>
              <a:rPr b="0" i="1" lang="en-GB" sz="3200" spc="-1" strike="noStrike">
                <a:solidFill>
                  <a:srgbClr val="4a004b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ve candidates have applied for the job but time constraints make it possible to only interview two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800" spc="-1" strike="noStrike">
                <a:solidFill>
                  <a:srgbClr val="da8700"/>
                </a:solidFill>
                <a:latin typeface="Arial"/>
              </a:rPr>
              <a:t>objective</a:t>
            </a:r>
            <a:r>
              <a:rPr b="0" lang="en-GB" sz="2800" spc="-1" strike="noStrike">
                <a:solidFill>
                  <a:srgbClr val="da87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da8700"/>
                </a:solidFill>
                <a:latin typeface="Arial"/>
              </a:rPr>
              <a:t>selection proced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 be used to select your interview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3" name="Picture 5" descr="more button"/>
          <p:cNvPicPr/>
          <p:nvPr/>
        </p:nvPicPr>
        <p:blipFill>
          <a:blip r:embed="rId1"/>
          <a:stretch/>
        </p:blipFill>
        <p:spPr>
          <a:xfrm>
            <a:off x="8317080" y="5445000"/>
            <a:ext cx="647640" cy="30492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6"/>
          <p:cNvSpPr/>
          <p:nvPr/>
        </p:nvSpPr>
        <p:spPr>
          <a:xfrm>
            <a:off x="9398160" y="1268280"/>
            <a:ext cx="7343640" cy="4147560"/>
          </a:xfrm>
          <a:prstGeom prst="rect">
            <a:avLst/>
          </a:prstGeom>
          <a:solidFill>
            <a:srgbClr val="ffc1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5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n open question is one in which the interviewee has the opportunity to express him/herself. Open questions often start with ‘why’ or ‘how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8920" indent="-358920">
              <a:spcBef>
                <a:spcPts val="15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losed questions have a limited set of responses (often yes/no and might typically start with the word ‘what’, ‘where’ or ‘who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8920" indent="-358920">
              <a:spcBef>
                <a:spcPts val="15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sider the difference between these two ques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98560" indent="-360360">
              <a:lnSpc>
                <a:spcPct val="100000"/>
              </a:lnSpc>
              <a:spcBef>
                <a:spcPts val="1500"/>
              </a:spcBef>
              <a:buClr>
                <a:srgbClr val="4a004b"/>
              </a:buClr>
              <a:buSzPct val="7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did you go to school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98560" indent="-360360">
              <a:lnSpc>
                <a:spcPct val="100000"/>
              </a:lnSpc>
              <a:spcBef>
                <a:spcPts val="1500"/>
              </a:spcBef>
              <a:buClr>
                <a:srgbClr val="4a004b"/>
              </a:buClr>
              <a:buSzPct val="70000"/>
              <a:buFont typeface="Wingdings" charset="2"/>
              <a:buChar char="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did you gain from your experiences in school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5" name="Picture 7" descr="pdf button"/>
          <p:cNvPicPr/>
          <p:nvPr/>
        </p:nvPicPr>
        <p:blipFill>
          <a:blip r:embed="rId2"/>
          <a:stretch/>
        </p:blipFill>
        <p:spPr>
          <a:xfrm>
            <a:off x="8459640" y="2565360"/>
            <a:ext cx="51444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-0.91354 4.81481E-006 E">
                                      <p:cBhvr>
                                        <p:cTn id="466" dur="5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evt="onNext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9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3293-A1AE-41B2-AC00-9B7FD7C4FFF7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E91-DE16-459C-9C69-B9007757D70E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need for effective recruitmen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sure that the best person is chosen for a job, the HRM department must be clear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job en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qualifications are required to do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rewards are needed to retain and motivate the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2DE6-C560-4E8B-9059-7FC2C40A1FB0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AF10-A8B9-4CA7-B84F-1742C69C3421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6. Interview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ing received CVs and accompanying letters, the company is in a position to begin the selection process. A short-list of applicants will be selected for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terview is a two-way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viewer wants to find out whether the applicant would be s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viewee is trying to decide whether the job and the business is right for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ism: Interviewers often make up their minds within a couple of minutes – sometimes even when the candidate enters the r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E24-969D-4A82-A78B-67A99F9D62DC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5CFF-87D0-4336-BE87-86450A1F8B3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esting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sinesses sometimes use </a:t>
            </a: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aptitu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psychometric tes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tests of mental ability) to try to assess a candidate’s su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8" name="Picture 7" descr="teacher's note button"/>
          <p:cNvPicPr/>
          <p:nvPr/>
        </p:nvPicPr>
        <p:blipFill>
          <a:blip r:embed="rId1"/>
          <a:stretch/>
        </p:blipFill>
        <p:spPr>
          <a:xfrm>
            <a:off x="7236000" y="189000"/>
            <a:ext cx="1714320" cy="3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0"/>
          <p:cNvGrpSpPr/>
          <p:nvPr/>
        </p:nvGrpSpPr>
        <p:grpSpPr>
          <a:xfrm>
            <a:off x="9685440" y="3586320"/>
            <a:ext cx="5688000" cy="2288520"/>
            <a:chOff x="9685440" y="3586320"/>
            <a:chExt cx="5688000" cy="2288520"/>
          </a:xfrm>
        </p:grpSpPr>
        <p:sp>
          <p:nvSpPr>
            <p:cNvPr id="490" name="Text Box 8"/>
            <p:cNvSpPr/>
            <p:nvPr/>
          </p:nvSpPr>
          <p:spPr>
            <a:xfrm>
              <a:off x="9685440" y="3586320"/>
              <a:ext cx="5688000" cy="2288520"/>
            </a:xfrm>
            <a:prstGeom prst="rect">
              <a:avLst/>
            </a:prstGeom>
            <a:solidFill>
              <a:srgbClr val="ffc1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 free online psychometric test can be found at peoplemaps.com. Click on the link under ‘Job Seekers’.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Note that at the end of the test you need to register and provide an email address (false???) in order to get to the screen showing the report.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491" name="Picture 5" descr="www button"/>
            <p:cNvPicPr/>
            <p:nvPr/>
          </p:nvPicPr>
          <p:blipFill>
            <a:blip r:embed="rId2"/>
            <a:stretch/>
          </p:blipFill>
          <p:spPr>
            <a:xfrm>
              <a:off x="10944360" y="4403880"/>
              <a:ext cx="628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-0.83073 -2.59259E-006 E">
                                      <p:cBhvr>
                                        <p:cTn id="512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evt="onNext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5" dur="1" fill="hold"/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1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B437-ED93-4FEA-A2E2-D965D11BDA8B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Footer Placeholder 2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4E04-436D-43A7-B21C-9BC8E41F8568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WordArt 6"/>
          <p:cNvSpPr txBox="1"/>
          <p:nvPr/>
        </p:nvSpPr>
        <p:spPr>
          <a:xfrm rot="16200000">
            <a:off x="-2867400" y="2928240"/>
            <a:ext cx="6742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sychometric profile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7" name="Picture 8" descr=""/>
          <p:cNvPicPr/>
          <p:nvPr/>
        </p:nvPicPr>
        <p:blipFill>
          <a:blip r:embed="rId3"/>
          <a:stretch/>
        </p:blipFill>
        <p:spPr>
          <a:xfrm rot="180000">
            <a:off x="2050920" y="189000"/>
            <a:ext cx="5411880" cy="643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3911-D6D0-4B2E-8FBE-7A0348674540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8EA4-2E00-4AE6-BBA2-28A5824EA11A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02" name="Text Box 52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03" name="Group 54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504" name="Line 55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5" name="AutoShape 56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6" name="Text Box 57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7" name="Line 58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8" name="Line 59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9" name="Line 60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0" name="Rectangle 61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1" name="Line 62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2" name="AutoShape 63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3" name="Text Box 64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4" name="Line 65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5" name="AutoShape 66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6" name="Text Box 67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7" name="Line 68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8" name="AutoShape 69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9" name="Text Box 70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0" name="Line 71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1" name="AutoShape 72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2" name="Text Box 73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3" name="Line 74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4" name="AutoShape 75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5" name="Text Box 76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6" name="Line 77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7" name="AutoShape 78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8" name="Text Box 79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9" name="AutoShape 80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0" name="Text Box 81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1" name="Line 82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2" name="AutoShape 83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3" name="Text Box 84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1D04-1005-429E-8860-236807BFA4BE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8B48-3601-4E85-9D50-682C8FA3020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7. Selection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est candidate is 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cision makers must be careful to avoid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for a popular but weak internal candidate over an excellent external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757C-B31F-4A99-94EE-D19313F8263E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D385-9A4C-458B-AC1C-EB059F4877E5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44" name="Text Box 50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45" name="Group 52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546" name="Line 53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7" name="AutoShape 54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8" name="Text Box 55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0" name="Line 57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1" name="Line 58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2" name="Rectangle 59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3" name="Line 60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4" name="AutoShape 61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5" name="Text Box 62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6" name="Line 63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7" name="AutoShape 64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8" name="Text Box 65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9" name="Line 66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0" name="AutoShape 67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1" name="Text Box 68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2" name="Line 69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3" name="AutoShape 70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4" name="Text Box 71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5" name="Line 72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6" name="AutoShape 73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7" name="Text Box 74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8" name="Line 75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9" name="AutoShape 76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0" name="Text Box 77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1" name="AutoShape 78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2" name="Text Box 79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3" name="Line 80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4" name="AutoShape 81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5" name="Text Box 82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C0BD-46C3-4974-8330-6C6512C4C7AD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F859-00A9-437D-93D5-747232DA569F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7. Check reference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mployer shouldn’t fail to send off for a reference typically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ast emplo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ersonal acquain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former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references can be insightful – often for what the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005c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bout reliability – getting homework in on tim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099-7CDE-484C-A523-51AB83144F1B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5222-F122-4C93-BEAA-F2762A61E929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586" name="Text Box 5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87" name="Group 53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588" name="Line 54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9" name="AutoShape 55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0" name="Text Box 56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1" name="Line 57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2" name="Line 58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3" name="Line 59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4" name="Rectangle 60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5" name="Line 61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6" name="AutoShape 62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7" name="Text Box 63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8" name="Line 64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9" name="AutoShape 65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0" name="Text Box 66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1" name="Line 67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2" name="AutoShape 68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3" name="Text Box 69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4" name="Line 70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5" name="AutoShape 71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6" name="Text Box 72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7" name="Line 73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8" name="AutoShape 74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9" name="Text Box 75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0" name="Line 76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1" name="AutoShape 77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2" name="Text Box 78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AutoShape 79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Text Box 80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5" name="Line 81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6" name="AutoShape 82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7" name="Text Box 83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79F9-2FDF-472B-A3A6-F6C54A357A99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7467-2BB0-4A5A-B932-208FB6F9945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9. Contract of employmen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written document detailing an employee’s terms and conditions of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4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03CC-BAEA-4654-90FA-6BF2A544C3C3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Footer Placeholder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Slide Number Placeholder 6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C2BD-F3A1-4D3E-AE74-6143DA105189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Contract of employment</a:t>
            </a:r>
            <a:br>
              <a:rPr sz="4000"/>
            </a:br>
            <a:r>
              <a:rPr b="0" i="1" lang="en-GB" sz="3200" spc="-1" strike="noStrike">
                <a:solidFill>
                  <a:srgbClr val="4a004b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82480" y="3141360"/>
            <a:ext cx="3593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Parties to the con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ate of commen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Place of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ours of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Over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28840" y="314136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oliday entit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ick p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ievance and disciplinary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Notice peri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Employee discou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974880" y="1636560"/>
            <a:ext cx="786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a005c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headings are used by a major retailer in their sales assistants’ employment contr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1A13-B69A-4A6C-89B2-80E071B3DF4D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C31B-F41E-47FB-A86B-0397AED353DC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Recruitment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Internal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business appoints a current employee to a vac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a8700"/>
                </a:solidFill>
                <a:latin typeface="Arial"/>
              </a:rPr>
              <a:t>External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hen an employee is appointed from outside the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E7E8-DA05-4E9F-9A7A-363E3DC07784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4142-A621-48D5-87AE-1BB402B4E9C2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5" name="Group 57"/>
          <p:cNvGrpSpPr/>
          <p:nvPr/>
        </p:nvGrpSpPr>
        <p:grpSpPr>
          <a:xfrm>
            <a:off x="6434280" y="2789280"/>
            <a:ext cx="1577880" cy="1644480"/>
            <a:chOff x="6434280" y="2789280"/>
            <a:chExt cx="1577880" cy="1644480"/>
          </a:xfrm>
        </p:grpSpPr>
        <p:sp>
          <p:nvSpPr>
            <p:cNvPr id="126" name="Line 16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AutoShape 8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8" name="Text Box 30"/>
            <p:cNvSpPr/>
            <p:nvPr/>
          </p:nvSpPr>
          <p:spPr>
            <a:xfrm>
              <a:off x="6434280" y="327960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 Narro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grpSp>
        <p:nvGrpSpPr>
          <p:cNvPr id="130" name="Group 51"/>
          <p:cNvGrpSpPr/>
          <p:nvPr/>
        </p:nvGrpSpPr>
        <p:grpSpPr>
          <a:xfrm>
            <a:off x="3441240" y="4235040"/>
            <a:ext cx="3816720" cy="544680"/>
            <a:chOff x="3441240" y="4235040"/>
            <a:chExt cx="3816720" cy="544680"/>
          </a:xfrm>
        </p:grpSpPr>
        <p:sp>
          <p:nvSpPr>
            <p:cNvPr id="131" name="Line 12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" name="Rectangle 20"/>
            <p:cNvSpPr/>
            <p:nvPr/>
          </p:nvSpPr>
          <p:spPr>
            <a:xfrm>
              <a:off x="440604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5" name="Group 53"/>
          <p:cNvGrpSpPr/>
          <p:nvPr/>
        </p:nvGrpSpPr>
        <p:grpSpPr>
          <a:xfrm>
            <a:off x="3822840" y="4952880"/>
            <a:ext cx="2090160" cy="1133640"/>
            <a:chOff x="3822840" y="4952880"/>
            <a:chExt cx="2090160" cy="1133640"/>
          </a:xfrm>
        </p:grpSpPr>
        <p:sp>
          <p:nvSpPr>
            <p:cNvPr id="136" name="Line 18"/>
            <p:cNvSpPr/>
            <p:nvPr/>
          </p:nvSpPr>
          <p:spPr>
            <a:xfrm>
              <a:off x="3822840" y="5578560"/>
              <a:ext cx="47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37" name="Group 44"/>
            <p:cNvGrpSpPr/>
            <p:nvPr/>
          </p:nvGrpSpPr>
          <p:grpSpPr>
            <a:xfrm>
              <a:off x="4307760" y="4952880"/>
              <a:ext cx="1605240" cy="1133640"/>
              <a:chOff x="4307760" y="4952880"/>
              <a:chExt cx="1605240" cy="1133640"/>
            </a:xfrm>
          </p:grpSpPr>
          <p:sp>
            <p:nvSpPr>
              <p:cNvPr id="138" name="AutoShape 10"/>
              <p:cNvSpPr/>
              <p:nvPr/>
            </p:nvSpPr>
            <p:spPr>
              <a:xfrm>
                <a:off x="4307760" y="4967280"/>
                <a:ext cx="1605240" cy="1119240"/>
              </a:xfrm>
              <a:prstGeom prst="roundRect">
                <a:avLst>
                  <a:gd name="adj" fmla="val 22722"/>
                </a:avLst>
              </a:prstGeom>
              <a:solidFill>
                <a:srgbClr val="da8700">
                  <a:alpha val="8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Check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references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4327920" y="4952880"/>
                <a:ext cx="46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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40" name="Group 52"/>
          <p:cNvGrpSpPr/>
          <p:nvPr/>
        </p:nvGrpSpPr>
        <p:grpSpPr>
          <a:xfrm>
            <a:off x="2209680" y="4441680"/>
            <a:ext cx="1605240" cy="1644840"/>
            <a:chOff x="2209680" y="4441680"/>
            <a:chExt cx="1605240" cy="1644840"/>
          </a:xfrm>
        </p:grpSpPr>
        <p:sp>
          <p:nvSpPr>
            <p:cNvPr id="141" name="Line 26"/>
            <p:cNvSpPr/>
            <p:nvPr/>
          </p:nvSpPr>
          <p:spPr>
            <a:xfrm>
              <a:off x="306036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42" name="Group 43"/>
            <p:cNvGrpSpPr/>
            <p:nvPr/>
          </p:nvGrpSpPr>
          <p:grpSpPr>
            <a:xfrm>
              <a:off x="2209680" y="4929120"/>
              <a:ext cx="1605240" cy="1157400"/>
              <a:chOff x="2209680" y="4929120"/>
              <a:chExt cx="1605240" cy="1157400"/>
            </a:xfrm>
          </p:grpSpPr>
          <p:sp>
            <p:nvSpPr>
              <p:cNvPr id="143" name="AutoShape 24"/>
              <p:cNvSpPr/>
              <p:nvPr/>
            </p:nvSpPr>
            <p:spPr>
              <a:xfrm>
                <a:off x="2209680" y="4967280"/>
                <a:ext cx="1605240" cy="1119240"/>
              </a:xfrm>
              <a:prstGeom prst="roundRect">
                <a:avLst>
                  <a:gd name="adj" fmla="val 21394"/>
                </a:avLst>
              </a:prstGeom>
              <a:solidFill>
                <a:srgbClr val="da8700">
                  <a:alpha val="6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Selecti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" name="Text Box 29"/>
              <p:cNvSpPr/>
              <p:nvPr/>
            </p:nvSpPr>
            <p:spPr>
              <a:xfrm>
                <a:off x="2295720" y="4929120"/>
                <a:ext cx="45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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45" name="Group 49"/>
          <p:cNvGrpSpPr/>
          <p:nvPr/>
        </p:nvGrpSpPr>
        <p:grpSpPr>
          <a:xfrm>
            <a:off x="4307040" y="3279600"/>
            <a:ext cx="2187000" cy="1154160"/>
            <a:chOff x="4307040" y="3279600"/>
            <a:chExt cx="2187000" cy="1154160"/>
          </a:xfrm>
        </p:grpSpPr>
        <p:sp>
          <p:nvSpPr>
            <p:cNvPr id="146" name="Line 17"/>
            <p:cNvSpPr/>
            <p:nvPr/>
          </p:nvSpPr>
          <p:spPr>
            <a:xfrm flipH="1">
              <a:off x="592092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47" name="Group 41"/>
            <p:cNvGrpSpPr/>
            <p:nvPr/>
          </p:nvGrpSpPr>
          <p:grpSpPr>
            <a:xfrm>
              <a:off x="4307040" y="3279600"/>
              <a:ext cx="1606680" cy="1154160"/>
              <a:chOff x="4307040" y="3279600"/>
              <a:chExt cx="1606680" cy="1154160"/>
            </a:xfrm>
          </p:grpSpPr>
          <p:sp>
            <p:nvSpPr>
              <p:cNvPr id="148" name="AutoShape 23"/>
              <p:cNvSpPr/>
              <p:nvPr/>
            </p:nvSpPr>
            <p:spPr>
              <a:xfrm>
                <a:off x="4307040" y="3313080"/>
                <a:ext cx="1606680" cy="1120680"/>
              </a:xfrm>
              <a:prstGeom prst="roundRect">
                <a:avLst>
                  <a:gd name="adj" fmla="val 21394"/>
                </a:avLst>
              </a:prstGeom>
              <a:solidFill>
                <a:srgbClr val="da8700">
                  <a:alpha val="4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CV or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form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Text Box 31"/>
              <p:cNvSpPr/>
              <p:nvPr/>
            </p:nvSpPr>
            <p:spPr>
              <a:xfrm>
                <a:off x="4404600" y="3279600"/>
                <a:ext cx="4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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50" name="Group 50"/>
          <p:cNvGrpSpPr/>
          <p:nvPr/>
        </p:nvGrpSpPr>
        <p:grpSpPr>
          <a:xfrm>
            <a:off x="2209680" y="3276720"/>
            <a:ext cx="2090160" cy="1157040"/>
            <a:chOff x="2209680" y="3276720"/>
            <a:chExt cx="2090160" cy="1157040"/>
          </a:xfrm>
        </p:grpSpPr>
        <p:sp>
          <p:nvSpPr>
            <p:cNvPr id="151" name="Line 25"/>
            <p:cNvSpPr/>
            <p:nvPr/>
          </p:nvSpPr>
          <p:spPr>
            <a:xfrm flipH="1">
              <a:off x="382212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2" name="Group 42"/>
            <p:cNvGrpSpPr/>
            <p:nvPr/>
          </p:nvGrpSpPr>
          <p:grpSpPr>
            <a:xfrm>
              <a:off x="2209680" y="3276720"/>
              <a:ext cx="1605600" cy="1157040"/>
              <a:chOff x="2209680" y="3276720"/>
              <a:chExt cx="1605600" cy="1157040"/>
            </a:xfrm>
          </p:grpSpPr>
          <p:sp>
            <p:nvSpPr>
              <p:cNvPr id="153" name="AutoShape 9"/>
              <p:cNvSpPr/>
              <p:nvPr/>
            </p:nvSpPr>
            <p:spPr>
              <a:xfrm>
                <a:off x="2209680" y="3313080"/>
                <a:ext cx="1605600" cy="1120680"/>
              </a:xfrm>
              <a:prstGeom prst="roundRect">
                <a:avLst>
                  <a:gd name="adj" fmla="val 21394"/>
                </a:avLst>
              </a:prstGeom>
              <a:solidFill>
                <a:srgbClr val="da87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Interview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(&amp; test)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2223000" y="3276720"/>
                <a:ext cx="45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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55" name="Group 47"/>
          <p:cNvGrpSpPr/>
          <p:nvPr/>
        </p:nvGrpSpPr>
        <p:grpSpPr>
          <a:xfrm>
            <a:off x="5921280" y="1603440"/>
            <a:ext cx="2090520" cy="1176120"/>
            <a:chOff x="5921280" y="1603440"/>
            <a:chExt cx="2090520" cy="1176120"/>
          </a:xfrm>
        </p:grpSpPr>
        <p:sp>
          <p:nvSpPr>
            <p:cNvPr id="156" name="Line 15"/>
            <p:cNvSpPr/>
            <p:nvPr/>
          </p:nvSpPr>
          <p:spPr>
            <a:xfrm>
              <a:off x="5921280" y="2271600"/>
              <a:ext cx="57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7" name="Group 39"/>
            <p:cNvGrpSpPr/>
            <p:nvPr/>
          </p:nvGrpSpPr>
          <p:grpSpPr>
            <a:xfrm>
              <a:off x="6501240" y="1603440"/>
              <a:ext cx="1510560" cy="1176120"/>
              <a:chOff x="6501240" y="1603440"/>
              <a:chExt cx="1510560" cy="1176120"/>
            </a:xfrm>
          </p:grpSpPr>
          <p:sp>
            <p:nvSpPr>
              <p:cNvPr id="158" name="AutoShape 7"/>
              <p:cNvSpPr/>
              <p:nvPr/>
            </p:nvSpPr>
            <p:spPr>
              <a:xfrm>
                <a:off x="6501240" y="1660680"/>
                <a:ext cx="1510560" cy="1118880"/>
              </a:xfrm>
              <a:prstGeom prst="roundRect">
                <a:avLst>
                  <a:gd name="adj" fmla="val 24046"/>
                </a:avLst>
              </a:prstGeom>
              <a:solidFill>
                <a:srgbClr val="da8700">
                  <a:alpha val="2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Pers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specificati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Text Box 33"/>
              <p:cNvSpPr/>
              <p:nvPr/>
            </p:nvSpPr>
            <p:spPr>
              <a:xfrm>
                <a:off x="6512040" y="1603440"/>
                <a:ext cx="45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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60" name="Group 46"/>
          <p:cNvGrpSpPr/>
          <p:nvPr/>
        </p:nvGrpSpPr>
        <p:grpSpPr>
          <a:xfrm>
            <a:off x="3822840" y="1603440"/>
            <a:ext cx="2090160" cy="1176120"/>
            <a:chOff x="3822840" y="1603440"/>
            <a:chExt cx="2090160" cy="1176120"/>
          </a:xfrm>
        </p:grpSpPr>
        <p:sp>
          <p:nvSpPr>
            <p:cNvPr id="161" name="Line 22"/>
            <p:cNvSpPr/>
            <p:nvPr/>
          </p:nvSpPr>
          <p:spPr>
            <a:xfrm>
              <a:off x="3822840" y="2271600"/>
              <a:ext cx="47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62" name="Group 38"/>
            <p:cNvGrpSpPr/>
            <p:nvPr/>
          </p:nvGrpSpPr>
          <p:grpSpPr>
            <a:xfrm>
              <a:off x="4307760" y="1603440"/>
              <a:ext cx="1605240" cy="1176120"/>
              <a:chOff x="4307760" y="1603440"/>
              <a:chExt cx="1605240" cy="1176120"/>
            </a:xfrm>
          </p:grpSpPr>
          <p:sp>
            <p:nvSpPr>
              <p:cNvPr id="163" name="AutoShape 6"/>
              <p:cNvSpPr/>
              <p:nvPr/>
            </p:nvSpPr>
            <p:spPr>
              <a:xfrm>
                <a:off x="4307760" y="1660680"/>
                <a:ext cx="1605240" cy="1118880"/>
              </a:xfrm>
              <a:prstGeom prst="roundRect">
                <a:avLst>
                  <a:gd name="adj" fmla="val 22722"/>
                </a:avLst>
              </a:prstGeom>
              <a:solidFill>
                <a:srgbClr val="da8700">
                  <a:alpha val="1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Job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description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Text Box 34"/>
              <p:cNvSpPr/>
              <p:nvPr/>
            </p:nvSpPr>
            <p:spPr>
              <a:xfrm>
                <a:off x="4333680" y="1603440"/>
                <a:ext cx="45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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65" name="Group 37"/>
          <p:cNvGrpSpPr/>
          <p:nvPr/>
        </p:nvGrpSpPr>
        <p:grpSpPr>
          <a:xfrm>
            <a:off x="2209680" y="1617840"/>
            <a:ext cx="1605240" cy="1161720"/>
            <a:chOff x="2209680" y="1617840"/>
            <a:chExt cx="1605240" cy="1161720"/>
          </a:xfrm>
        </p:grpSpPr>
        <p:sp>
          <p:nvSpPr>
            <p:cNvPr id="166" name="AutoShape 21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Text Box 35"/>
            <p:cNvSpPr/>
            <p:nvPr/>
          </p:nvSpPr>
          <p:spPr>
            <a:xfrm>
              <a:off x="221868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8" name="Group 54"/>
          <p:cNvGrpSpPr/>
          <p:nvPr/>
        </p:nvGrpSpPr>
        <p:grpSpPr>
          <a:xfrm>
            <a:off x="5921280" y="4952880"/>
            <a:ext cx="2090520" cy="1133640"/>
            <a:chOff x="5921280" y="4952880"/>
            <a:chExt cx="2090520" cy="1133640"/>
          </a:xfrm>
        </p:grpSpPr>
        <p:sp>
          <p:nvSpPr>
            <p:cNvPr id="169" name="Line 19"/>
            <p:cNvSpPr/>
            <p:nvPr/>
          </p:nvSpPr>
          <p:spPr>
            <a:xfrm>
              <a:off x="592128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70" name="Group 45"/>
            <p:cNvGrpSpPr/>
            <p:nvPr/>
          </p:nvGrpSpPr>
          <p:grpSpPr>
            <a:xfrm>
              <a:off x="6406200" y="4952880"/>
              <a:ext cx="1605600" cy="1133640"/>
              <a:chOff x="6406200" y="4952880"/>
              <a:chExt cx="1605600" cy="1133640"/>
            </a:xfrm>
          </p:grpSpPr>
          <p:sp>
            <p:nvSpPr>
              <p:cNvPr id="171" name="AutoShape 11"/>
              <p:cNvSpPr/>
              <p:nvPr/>
            </p:nvSpPr>
            <p:spPr>
              <a:xfrm>
                <a:off x="6406200" y="4967280"/>
                <a:ext cx="1605600" cy="1119240"/>
              </a:xfrm>
              <a:prstGeom prst="roundRect">
                <a:avLst>
                  <a:gd name="adj" fmla="val 22722"/>
                </a:avLst>
              </a:prstGeom>
              <a:solidFill>
                <a:srgbClr val="da8700">
                  <a:alpha val="9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Employment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Comic Sans MS"/>
                  </a:rPr>
                  <a:t>Contract</a:t>
                </a: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2" name="Text Box 36"/>
              <p:cNvSpPr/>
              <p:nvPr/>
            </p:nvSpPr>
            <p:spPr>
              <a:xfrm>
                <a:off x="6445080" y="495288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</a:t>
                </a: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73" name="Text Box 55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A214-A955-4843-B27E-E80021327015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8D0E-ABEC-47E5-B52C-8603477048F7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grpSp>
        <p:nvGrpSpPr>
          <p:cNvPr id="178" name="Group 54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179" name="Line 3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" name="AutoShape 21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" name="Text Box 22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" name="AutoShape 26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" name="Text Box 27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6" name="AutoShape 31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7" name="Text Box 32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8" name="Line 34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9" name="AutoShape 36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0" name="Text Box 37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" name="Line 39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" name="AutoShape 41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" name="Text Box 42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" name="AutoShape 44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" name="Text Box 45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" name="Line 47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" name="AutoShape 49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09" name="Text Box 5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392A-17C1-4203-956B-CE45BADC9C50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40CB-9F1C-4B8B-ACEB-C8F8E5B2EEEB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1. Job analysi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ob is broken down into its component parts in order to identify exactly what the holder is require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ables the business to identify the role and the ideal rec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2E3A-F574-47C6-B255-674FA62A4369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A3A9-4C19-4201-A361-9D9F95E35311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20" name="Text Box 5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1" name="Group 84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222" name="Line 85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3" name="AutoShape 86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4" name="Text Box 87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5" name="Line 88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6" name="Line 89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7" name="Line 90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8" name="Rectangle 91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9" name="Line 92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0" name="AutoShape 93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1" name="Text Box 94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2" name="Line 95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3" name="AutoShape 96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4" name="Text Box 97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5" name="Line 98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6" name="AutoShape 99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7" name="Text Box 100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8" name="Line 101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9" name="AutoShape 102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0" name="Text Box 103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1" name="Line 104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2" name="AutoShape 105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3" name="Text Box 106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4" name="Line 107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5" name="AutoShape 108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6" name="Text Box 109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7" name="AutoShape 110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8" name="Text Box 111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9" name="Line 112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0" name="AutoShape 113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1" name="Text Box 114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A6E7-E92A-47CA-BB49-D6399D5DDAC6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0CE9-1ED9-4A5E-A7CF-AD115FE591ED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2. Job description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87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ce a business has analysed what a job entails, it is important to draw up a description of the jo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066680" y="3200400"/>
            <a:ext cx="3505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General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570560" y="3200400"/>
            <a:ext cx="4421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ob 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Job summa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066680" y="4384800"/>
            <a:ext cx="3505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Job content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4570560" y="4384800"/>
            <a:ext cx="4421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asks involved and purpo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ther du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sponsibility (to who and for whom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066680" y="558972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Working condi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4570560" y="5589720"/>
            <a:ext cx="44211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urs, holidays et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1066680" y="6108840"/>
            <a:ext cx="3505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8700"/>
                </a:solidFill>
                <a:latin typeface="Arial Narrow"/>
                <a:ea typeface="Times New Roman"/>
              </a:rPr>
              <a:t>Performance measur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4570560" y="6108840"/>
            <a:ext cx="4421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iteria for measuring perform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66" name="Group 32"/>
          <p:cNvGrpSpPr/>
          <p:nvPr/>
        </p:nvGrpSpPr>
        <p:grpSpPr>
          <a:xfrm>
            <a:off x="5701680" y="0"/>
            <a:ext cx="3442320" cy="307080"/>
            <a:chOff x="5701680" y="0"/>
            <a:chExt cx="3442320" cy="307080"/>
          </a:xfrm>
        </p:grpSpPr>
        <p:pic>
          <p:nvPicPr>
            <p:cNvPr id="267" name="Picture 33" descr="pdf button"/>
            <p:cNvPicPr/>
            <p:nvPr/>
          </p:nvPicPr>
          <p:blipFill>
            <a:blip r:embed="rId1"/>
            <a:stretch/>
          </p:blipFill>
          <p:spPr>
            <a:xfrm>
              <a:off x="8629560" y="0"/>
              <a:ext cx="51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4"/>
            <p:cNvSpPr/>
            <p:nvPr/>
          </p:nvSpPr>
          <p:spPr>
            <a:xfrm>
              <a:off x="5701680" y="0"/>
              <a:ext cx="30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019d"/>
                  </a:solidFill>
                  <a:latin typeface="Arial Narrow"/>
                </a:rPr>
                <a:t>Climate Clothing job description gap fill task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D4DF-82DA-45D7-9113-8AFD8EDB3B39}" type="datetime3">
              <a:rPr b="0" lang="en-US" sz="1400" spc="-1" strike="noStrike">
                <a:solidFill>
                  <a:srgbClr val="c8b3c3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8b3c3"/>
                </a:solidFill>
                <a:latin typeface="Arial"/>
              </a:rPr>
              <a:t>© easilyinteractive.com 2006-1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4125-61D6-4A64-A78D-DDF16DEA06D1}" type="slidenum">
              <a:rPr b="0" lang="en-GB" sz="1400" spc="-1" strike="noStrike">
                <a:solidFill>
                  <a:srgbClr val="c8b3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90160" y="75960"/>
            <a:ext cx="7953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a004b"/>
                </a:solidFill>
                <a:latin typeface="Arial"/>
              </a:rPr>
              <a:t>The full recruitment process</a:t>
            </a:r>
            <a:endParaRPr b="0" lang="en-US" sz="4000" spc="-1" strike="noStrike">
              <a:solidFill>
                <a:srgbClr val="4a004b"/>
              </a:solidFill>
              <a:latin typeface="Arial"/>
            </a:endParaRPr>
          </a:p>
        </p:txBody>
      </p:sp>
      <p:sp>
        <p:nvSpPr>
          <p:cNvPr id="273" name="Text Box 51"/>
          <p:cNvSpPr/>
          <p:nvPr/>
        </p:nvSpPr>
        <p:spPr>
          <a:xfrm>
            <a:off x="230040" y="601992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005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74" name="Group 84"/>
          <p:cNvGrpSpPr/>
          <p:nvPr/>
        </p:nvGrpSpPr>
        <p:grpSpPr>
          <a:xfrm>
            <a:off x="2209680" y="1603440"/>
            <a:ext cx="5802480" cy="4483080"/>
            <a:chOff x="2209680" y="1603440"/>
            <a:chExt cx="5802480" cy="4483080"/>
          </a:xfrm>
        </p:grpSpPr>
        <p:sp>
          <p:nvSpPr>
            <p:cNvPr id="275" name="Line 85"/>
            <p:cNvSpPr/>
            <p:nvPr/>
          </p:nvSpPr>
          <p:spPr>
            <a:xfrm>
              <a:off x="7161120" y="278928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6" name="AutoShape 86"/>
            <p:cNvSpPr/>
            <p:nvPr/>
          </p:nvSpPr>
          <p:spPr>
            <a:xfrm>
              <a:off x="6500880" y="3313080"/>
              <a:ext cx="1511280" cy="1120680"/>
            </a:xfrm>
            <a:prstGeom prst="roundRect">
              <a:avLst>
                <a:gd name="adj" fmla="val 25181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dvertise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7" name="Text Box 87"/>
            <p:cNvSpPr/>
            <p:nvPr/>
          </p:nvSpPr>
          <p:spPr>
            <a:xfrm>
              <a:off x="651456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8" name="Line 88"/>
            <p:cNvSpPr/>
            <p:nvPr/>
          </p:nvSpPr>
          <p:spPr>
            <a:xfrm>
              <a:off x="3441600" y="444168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9" name="Line 89"/>
            <p:cNvSpPr/>
            <p:nvPr/>
          </p:nvSpPr>
          <p:spPr>
            <a:xfrm flipH="1">
              <a:off x="3441240" y="4751280"/>
              <a:ext cx="38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0" name="Line 90"/>
            <p:cNvSpPr/>
            <p:nvPr/>
          </p:nvSpPr>
          <p:spPr>
            <a:xfrm flipV="1">
              <a:off x="7257960" y="423504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1" name="Rectangle 91"/>
            <p:cNvSpPr/>
            <p:nvPr/>
          </p:nvSpPr>
          <p:spPr>
            <a:xfrm>
              <a:off x="4406400" y="4416480"/>
              <a:ext cx="161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-advertise?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2" name="Line 92"/>
            <p:cNvSpPr/>
            <p:nvPr/>
          </p:nvSpPr>
          <p:spPr>
            <a:xfrm>
              <a:off x="3822840" y="55785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3" name="AutoShape 93"/>
            <p:cNvSpPr/>
            <p:nvPr/>
          </p:nvSpPr>
          <p:spPr>
            <a:xfrm>
              <a:off x="4307040" y="4967280"/>
              <a:ext cx="160632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4" name="Text Box 94"/>
            <p:cNvSpPr/>
            <p:nvPr/>
          </p:nvSpPr>
          <p:spPr>
            <a:xfrm>
              <a:off x="432828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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5" name="Line 95"/>
            <p:cNvSpPr/>
            <p:nvPr/>
          </p:nvSpPr>
          <p:spPr>
            <a:xfrm>
              <a:off x="3060720" y="4441680"/>
              <a:ext cx="0" cy="51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6" name="AutoShape 96"/>
            <p:cNvSpPr/>
            <p:nvPr/>
          </p:nvSpPr>
          <p:spPr>
            <a:xfrm>
              <a:off x="2209680" y="4967280"/>
              <a:ext cx="1605240" cy="111924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7" name="Text Box 97"/>
            <p:cNvSpPr/>
            <p:nvPr/>
          </p:nvSpPr>
          <p:spPr>
            <a:xfrm>
              <a:off x="2295720" y="49291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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8" name="Line 98"/>
            <p:cNvSpPr/>
            <p:nvPr/>
          </p:nvSpPr>
          <p:spPr>
            <a:xfrm flipH="1">
              <a:off x="5921280" y="39258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9" name="AutoShape 99"/>
            <p:cNvSpPr/>
            <p:nvPr/>
          </p:nvSpPr>
          <p:spPr>
            <a:xfrm>
              <a:off x="4307040" y="3313080"/>
              <a:ext cx="160632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V or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0" name="Text Box 100"/>
            <p:cNvSpPr/>
            <p:nvPr/>
          </p:nvSpPr>
          <p:spPr>
            <a:xfrm>
              <a:off x="4404600" y="327960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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1" name="Line 101"/>
            <p:cNvSpPr/>
            <p:nvPr/>
          </p:nvSpPr>
          <p:spPr>
            <a:xfrm flipH="1">
              <a:off x="3822480" y="39258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AutoShape 102"/>
            <p:cNvSpPr/>
            <p:nvPr/>
          </p:nvSpPr>
          <p:spPr>
            <a:xfrm>
              <a:off x="2209680" y="3313080"/>
              <a:ext cx="1606680" cy="1120680"/>
            </a:xfrm>
            <a:prstGeom prst="roundRect">
              <a:avLst>
                <a:gd name="adj" fmla="val 21394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terview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(&amp; test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Text Box 103"/>
            <p:cNvSpPr/>
            <p:nvPr/>
          </p:nvSpPr>
          <p:spPr>
            <a:xfrm>
              <a:off x="2223000" y="327672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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Line 104"/>
            <p:cNvSpPr/>
            <p:nvPr/>
          </p:nvSpPr>
          <p:spPr>
            <a:xfrm>
              <a:off x="5921280" y="227160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AutoShape 105"/>
            <p:cNvSpPr/>
            <p:nvPr/>
          </p:nvSpPr>
          <p:spPr>
            <a:xfrm>
              <a:off x="6500880" y="1660680"/>
              <a:ext cx="1511280" cy="1118880"/>
            </a:xfrm>
            <a:prstGeom prst="roundRect">
              <a:avLst>
                <a:gd name="adj" fmla="val 24046"/>
              </a:avLst>
            </a:prstGeom>
            <a:solidFill>
              <a:srgbClr val="4a004b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Text Box 106"/>
            <p:cNvSpPr/>
            <p:nvPr/>
          </p:nvSpPr>
          <p:spPr>
            <a:xfrm>
              <a:off x="6511680" y="16034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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Line 107"/>
            <p:cNvSpPr/>
            <p:nvPr/>
          </p:nvSpPr>
          <p:spPr>
            <a:xfrm>
              <a:off x="3822840" y="227160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AutoShape 108"/>
            <p:cNvSpPr/>
            <p:nvPr/>
          </p:nvSpPr>
          <p:spPr>
            <a:xfrm>
              <a:off x="4307040" y="1660680"/>
              <a:ext cx="160632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9" name="Text Box 109"/>
            <p:cNvSpPr/>
            <p:nvPr/>
          </p:nvSpPr>
          <p:spPr>
            <a:xfrm>
              <a:off x="4334040" y="160344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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0" name="AutoShape 110"/>
            <p:cNvSpPr/>
            <p:nvPr/>
          </p:nvSpPr>
          <p:spPr>
            <a:xfrm>
              <a:off x="2209680" y="1660680"/>
              <a:ext cx="1605240" cy="111888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1" name="Text Box 111"/>
            <p:cNvSpPr/>
            <p:nvPr/>
          </p:nvSpPr>
          <p:spPr>
            <a:xfrm>
              <a:off x="2218320" y="161784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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2" name="Line 112"/>
            <p:cNvSpPr/>
            <p:nvPr/>
          </p:nvSpPr>
          <p:spPr>
            <a:xfrm>
              <a:off x="5921280" y="5578560"/>
              <a:ext cx="47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3" name="AutoShape 113"/>
            <p:cNvSpPr/>
            <p:nvPr/>
          </p:nvSpPr>
          <p:spPr>
            <a:xfrm>
              <a:off x="6405480" y="4967280"/>
              <a:ext cx="1606680" cy="1119240"/>
            </a:xfrm>
            <a:prstGeom prst="roundRect">
              <a:avLst>
                <a:gd name="adj" fmla="val 22722"/>
              </a:avLst>
            </a:prstGeom>
            <a:solidFill>
              <a:srgbClr val="da8700">
                <a:alpha val="3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4" name="Text Box 114"/>
            <p:cNvSpPr/>
            <p:nvPr/>
          </p:nvSpPr>
          <p:spPr>
            <a:xfrm>
              <a:off x="6444720" y="495288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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20:32:19Z</dcterms:created>
  <dc:creator>Graham Crewe</dc:creator>
  <dc:description/>
  <dc:language>en-US</dc:language>
  <cp:lastModifiedBy>Ernest Reichelt</cp:lastModifiedBy>
  <dcterms:modified xsi:type="dcterms:W3CDTF">2013-06-21T01:23:22Z</dcterms:modified>
  <cp:revision>68</cp:revision>
  <dc:subject/>
  <dc:title>The recruitment process</dc:title>
</cp:coreProperties>
</file>